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15FA-D58D-4173-B4C9-A7BCE89DA47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F62-1A88-4BFE-8C59-F38FF09A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8B8-325C-4635-A562-FE41D19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D2D-4C91-40C1-B50C-9F0CF2F6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9A3-F7AA-483B-A282-E5D57178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128C-9DE6-4289-8824-B1EC4EF5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4511-CA19-4D79-824C-3642C431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951B-E6C0-4484-BA2B-D492F92B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0A26-C507-4E28-92C6-95202F4F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AF41-A48B-4EB9-AA5A-BB8FE6C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98DD-6E5C-475B-B797-6A3147E6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D6FC-5293-4B1D-8CAB-DFF616E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BD8-A395-4042-B759-E118327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6094-71D9-41A3-A926-BCB9FBF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2FF8-7C44-4090-880E-02AF40D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FE7D-240D-4AF2-8515-AC9DDB1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0D0-3161-45AA-8A9A-0219DD79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A324-65E7-41E7-B8BD-F04775B9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E4A-71FB-40AF-BD2C-6A60476E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694-95BD-431D-A017-55D7DE9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8B0-185E-4F4A-8A36-8FEF04FF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98F-C68E-4DB9-A92F-DD70D77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4A1-4679-444F-ABFE-0221025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3B4-144A-4D15-A394-121A70B2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180-824C-4841-A631-9657DBE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-419400"/>
            <a:ext cx="822636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C59DF-4874-4181-BBBC-BC7440A645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485550-6910-4CF1-AD1C-36B26F90795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24400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480" y="344160"/>
            <a:ext cx="66452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oordenadas </a:t>
            </a: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X e Y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809720"/>
            <a:ext cx="89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Todo </a:t>
            </a:r>
            <a:r>
              <a:rPr b="1" i="1" lang="pt-BR" sz="2400" spc="-1" strike="noStrike">
                <a:solidFill>
                  <a:srgbClr val="ffffff"/>
                </a:solidFill>
                <a:latin typeface="Bookman Old Style"/>
              </a:rPr>
              <a:t>Sprite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tem suas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próprias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coordenadas X e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65080" y="2421000"/>
            <a:ext cx="5183280" cy="3663720"/>
            <a:chOff x="1765080" y="2421000"/>
            <a:chExt cx="5183280" cy="3663720"/>
          </a:xfrm>
        </p:grpSpPr>
        <p:grpSp>
          <p:nvGrpSpPr>
            <p:cNvPr id="112" name=""/>
            <p:cNvGrpSpPr/>
            <p:nvPr/>
          </p:nvGrpSpPr>
          <p:grpSpPr>
            <a:xfrm>
              <a:off x="1765080" y="2421000"/>
              <a:ext cx="919800" cy="486720"/>
              <a:chOff x="1765080" y="2421000"/>
              <a:chExt cx="919800" cy="486720"/>
            </a:xfrm>
          </p:grpSpPr>
          <p:sp>
            <p:nvSpPr>
              <p:cNvPr id="113" name=""/>
              <p:cNvSpPr/>
              <p:nvPr/>
            </p:nvSpPr>
            <p:spPr>
              <a:xfrm>
                <a:off x="1765080" y="2421000"/>
                <a:ext cx="9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(   ,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66520" y="2421000"/>
                <a:ext cx="9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(   ,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93960" y="2448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66840" y="2448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627280" y="2852640"/>
              <a:ext cx="4321080" cy="3232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8" name=""/>
          <p:cNvSpPr/>
          <p:nvPr/>
        </p:nvSpPr>
        <p:spPr>
          <a:xfrm>
            <a:off x="2162160" y="24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90720" y="24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59 0 E">
                                      <p:cBhvr>
                                        <p:cTn id="16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9306 E">
                                      <p:cBhvr>
                                        <p:cTn id="16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5480" y="344160"/>
            <a:ext cx="66452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oordenadas </a:t>
            </a: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X e Y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360" y="1619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Java diz que a </a:t>
            </a:r>
            <a:r>
              <a:rPr b="1" i="1" lang="pt-BR" sz="2400" spc="-1" strike="noStrike">
                <a:solidFill>
                  <a:srgbClr val="ffffff"/>
                </a:solidFill>
                <a:latin typeface="Bookman Old Style"/>
              </a:rPr>
              <a:t>TELA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tem as segui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As coordenadas começam no canto esquerdo da tela na parte de c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3720" y="3959280"/>
            <a:ext cx="33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nde estão pres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 X=0 e o Y=0 e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stendem até o f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da tela que re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sentando cada ei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46680" y="3419640"/>
            <a:ext cx="5197320" cy="3240000"/>
            <a:chOff x="3946680" y="3419640"/>
            <a:chExt cx="5197320" cy="3240000"/>
          </a:xfrm>
        </p:grpSpPr>
        <p:sp>
          <p:nvSpPr>
            <p:cNvPr id="124" name=""/>
            <p:cNvSpPr/>
            <p:nvPr/>
          </p:nvSpPr>
          <p:spPr>
            <a:xfrm>
              <a:off x="4148280" y="4067280"/>
              <a:ext cx="1440" cy="2463840"/>
            </a:xfrm>
            <a:prstGeom prst="line">
              <a:avLst/>
            </a:prstGeom>
            <a:ln w="93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99120" y="3665520"/>
              <a:ext cx="4574880" cy="1440"/>
            </a:xfrm>
            <a:prstGeom prst="line">
              <a:avLst/>
            </a:prstGeom>
            <a:ln w="93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9880" y="3894120"/>
              <a:ext cx="4524120" cy="269244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49880" y="3894120"/>
              <a:ext cx="8794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Bookman Old Style"/>
                </a:rPr>
                <a:t>( 0, 0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37360" y="3924360"/>
              <a:ext cx="1106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Times New Roman"/>
                </a:rPr>
                <a:t>( 600 , 0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46680" y="341964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7000" y="6186600"/>
              <a:ext cx="13478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Bookman Old Style"/>
                </a:rPr>
                <a:t>( 800 , 600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3920" y="6257880"/>
              <a:ext cx="11066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Bookman Old Style"/>
                </a:rPr>
                <a:t>( 0 , 800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9640" y="-360"/>
            <a:ext cx="66452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Movendo um Sprite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1441080"/>
            <a:ext cx="665964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Mover player para C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If ( k.keyDown(Keyboard.UP_KEY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sprite.y--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Mover player para Bai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if ( k.keyDown(Keyboard.DOWN_KEY) 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sprite.y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Mover player para Esquer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If ( k.keyDown(Keyboard.LEFT_KEY) 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sprite.x--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Mover player para Dire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If ( k.keyDown(Keyboard.RIGHT_KEY) == true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Bookman Old Style"/>
              </a:rPr>
              <a:t>sprite.x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128160"/>
            <a:ext cx="714852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Métodos de Controle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1635480"/>
            <a:ext cx="8461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Métodos que fazem parte da classe </a:t>
            </a: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GameStateController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e são responsáveis por i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public void load() { }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– carrega tudo n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public void unload() { }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– descarrega tudo d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public void start() { }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- chamado quando somente algumas coisas devem ser modificadas n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public void step( int ) { }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– responsável por cada etapa do jogo. Passando o tempo em millisegundos decorrente entre o frame atual e o frame anterior, permitindo assim animações baseadas em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public void draw( ) { }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– responsável pelo desenho dos objetos do jogo na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236160"/>
            <a:ext cx="71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riando um Sprit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9280" y="1967040"/>
            <a:ext cx="770544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ra criarmos um sprite devemos fornecer o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caminho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nde o sprite se locali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quantidade de imagens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m que o sprite é dividido e as suas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dimensões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m pix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odemos utilizar imagens do tipo jpg e png nas imagens dos spr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236160"/>
            <a:ext cx="71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riando um Sprit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658520"/>
            <a:ext cx="79218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prite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= new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prite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( caminh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Quantidade de Imag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alturaPixe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larguraPixel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prite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= new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prite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( "imagem.png", 1, 250, 600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52160"/>
            <a:ext cx="74372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Desenhando o Sprit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273400"/>
            <a:ext cx="6913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Sprite.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draw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( g, coordenadaX, coordenadaY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As coordenadas X e Y são pontos onde o sprite começará a ser desenh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 g apresentado é  fornecido pela Java, portando, não precisamos nos preocupar com 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236160"/>
            <a:ext cx="71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Exemplo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35280" y="3429000"/>
            <a:ext cx="2041560" cy="1989000"/>
            <a:chOff x="3635280" y="3429000"/>
            <a:chExt cx="2041560" cy="1989000"/>
          </a:xfrm>
        </p:grpSpPr>
        <p:sp>
          <p:nvSpPr>
            <p:cNvPr id="144" name=""/>
            <p:cNvSpPr/>
            <p:nvPr/>
          </p:nvSpPr>
          <p:spPr>
            <a:xfrm>
              <a:off x="3635280" y="3429000"/>
              <a:ext cx="2041560" cy="1989000"/>
            </a:xfrm>
            <a:prstGeom prst="rect">
              <a:avLst/>
            </a:prstGeom>
            <a:noFill/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0800" y="4175280"/>
              <a:ext cx="1362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Bookman Old Style"/>
                </a:rPr>
                <a:t>40 x 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44760" y="2973240"/>
            <a:ext cx="153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(34, 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76840" y="5335560"/>
            <a:ext cx="17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(74, 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6920" y="2932200"/>
            <a:ext cx="170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(74, 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38560" y="5376960"/>
            <a:ext cx="170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(34, 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4640" y="1916280"/>
            <a:ext cx="637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x.: tamanho do sprite = 40x40, X=34, Y=89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334440"/>
            <a:ext cx="714852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Fechando o jogo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1697040"/>
            <a:ext cx="72723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Para fechar um jogo basta usar o seguinte comando em qualquer parte do códi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GameEngine.get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requestShutdow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0" y="2160360"/>
            <a:ext cx="268776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9600" spc="-1" strike="noStrike">
                <a:solidFill>
                  <a:srgbClr val="ffffff"/>
                </a:solidFill>
                <a:latin typeface="Monotype Corsiva"/>
              </a:rPr>
              <a:t>Fim</a:t>
            </a:r>
            <a:br>
              <a:rPr sz="9600"/>
            </a:b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611440"/>
            <a:ext cx="7272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-179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600" spc="-1" strike="noStrike">
                <a:solidFill>
                  <a:srgbClr val="ffffff"/>
                </a:solidFill>
                <a:latin typeface="Monotype Corsiva"/>
              </a:rPr>
              <a:t>Sprite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471680"/>
            <a:ext cx="76327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O que é um Sp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É um objeto gráfico bi ou tridimensional que se move na tela sem deixar traços de sua passagem (como se fosse um "espírito"). No nosso caso até o fundo da tela será um sprite, só que esse não se move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Exemplo de 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Sprites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4859280"/>
            <a:ext cx="763272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Se houver mais de uma imagem no sprite o fundo deve ser uma cor sólida ou transparente.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5" action="ppaction://hlinksldjump"/>
              </a:rPr>
              <a:t>Exemplo de 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6" action="ppaction://hlinksldjump"/>
              </a:rPr>
              <a:t>Sprite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Bookman Old Style"/>
                <a:hlinkClick r:id="rId7" action="ppaction://hlinksldjump"/>
              </a:rPr>
              <a:t> com várias im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Exemplos de Sprit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025800" cy="302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908000" y="3206880"/>
            <a:ext cx="5183280" cy="3651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227640" y="1628640"/>
            <a:ext cx="1376640" cy="23688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7559640" y="6300720"/>
            <a:ext cx="10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Vo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Exemplos de Sprit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1368720" cy="123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995640" y="2565360"/>
            <a:ext cx="4238640" cy="11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5292720" y="3789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4 im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Fund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141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1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Fun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494172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2 im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Fundo La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187280" y="4869000"/>
            <a:ext cx="2354400" cy="102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">
            <a:hlinkClick r:id="rId5" action="ppaction://hlinksldjump"/>
          </p:cNvPr>
          <p:cNvSpPr/>
          <p:nvPr/>
        </p:nvSpPr>
        <p:spPr>
          <a:xfrm>
            <a:off x="7559640" y="6300720"/>
            <a:ext cx="10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Vo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lasses de control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484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 framework javaPlay usa números inteiros para chamar alguma classe que é responsável por alguma co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Esse comando adiciona uma nova classe ao jogo com o número X sendo o de ch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GameEngine.getInstance(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00dcff"/>
                </a:solidFill>
                <a:latin typeface="Bookman Old Style"/>
              </a:rPr>
              <a:t>addGameStateController( X, new Classe(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lasses de control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87280" y="2133720"/>
          <a:ext cx="7561440" cy="3258720"/>
        </p:xfrm>
        <a:graphic>
          <a:graphicData uri="http://schemas.openxmlformats.org/drawingml/2006/table">
            <a:tbl>
              <a:tblPr/>
              <a:tblGrid>
                <a:gridCol w="1584360"/>
                <a:gridCol w="4172040"/>
                <a:gridCol w="1805040"/>
              </a:tblGrid>
              <a:tr h="7178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un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ha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ela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presenta uma mensagem no COMEÇO do jo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og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sponsável por comandar o jo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ela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presenta uma mensagem no FIM do jo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lasses de controle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844640"/>
            <a:ext cx="79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GameEngine.getInstance(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          </a:t>
            </a:r>
            <a:r>
              <a:rPr b="1" lang="pt-BR" sz="2200" spc="-1" strike="noStrike">
                <a:solidFill>
                  <a:srgbClr val="ff00ff"/>
                </a:solidFill>
                <a:latin typeface="Bookman Old Style"/>
              </a:rPr>
              <a:t>addGameStateController( 0, new TelaInicial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GameEngine.getInstance(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          </a:t>
            </a:r>
            <a:r>
              <a:rPr b="1" lang="pt-BR" sz="2200" spc="-1" strike="noStrike">
                <a:solidFill>
                  <a:srgbClr val="ff00ff"/>
                </a:solidFill>
                <a:latin typeface="Bookman Old Style"/>
              </a:rPr>
              <a:t>addGameStateController( 1, new Jogar 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00ff"/>
                </a:solidFill>
                <a:latin typeface="Bookman Old Style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Bookman Old Style"/>
              </a:rPr>
              <a:t>GameEngine.getInstance(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          </a:t>
            </a:r>
            <a:r>
              <a:rPr b="1" lang="pt-BR" sz="2200" spc="-1" strike="noStrike">
                <a:solidFill>
                  <a:srgbClr val="ff00ff"/>
                </a:solidFill>
                <a:latin typeface="Bookman Old Style"/>
              </a:rPr>
              <a:t>addGameStateController( 2, new TelaFinal () 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846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lasse de inicialização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2003400"/>
            <a:ext cx="809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nforma ao javaPlay qual é a classe que primeiramente deve ser chamada quando o jogo começar a ro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GameEngine.getInstance().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pt-BR" sz="2400" spc="-1" strike="noStrike">
                <a:solidFill>
                  <a:srgbClr val="00dcff"/>
                </a:solidFill>
                <a:latin typeface="Bookman Old Style"/>
              </a:rPr>
              <a:t>setStartingGameStateController( numero X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515772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Numero X = número da classe adicionada em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               addGameState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7095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000"/>
            </a:br>
            <a:r>
              <a:rPr b="1" i="1" lang="pt-BR" sz="6000" spc="-1" strike="noStrike">
                <a:solidFill>
                  <a:srgbClr val="ffffff"/>
                </a:solidFill>
                <a:latin typeface="Monotype Corsiva"/>
              </a:rPr>
              <a:t>Passando o controle para outra classe</a:t>
            </a:r>
            <a:br>
              <a:rPr sz="6000"/>
            </a:br>
            <a:br>
              <a:rPr sz="6000"/>
            </a:b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49228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GameEngine.getInstance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         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etNextGameStateController( numero X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Diga qual o número X de chamada da próxima classe e pr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78732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Capturando teclas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773360"/>
            <a:ext cx="838836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Quando uma tecla foi pression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Capturamos um instância da classe Keybo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Keyboard k = GameEngine.getInstance().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getKeyboar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420e"/>
                </a:solidFill>
                <a:latin typeface="Bookman Old Style"/>
              </a:rPr>
              <a:t> </a:t>
            </a:r>
            <a:r>
              <a:rPr b="1" lang="pt-BR" sz="1900" spc="-1" strike="noStrike">
                <a:solidFill>
                  <a:srgbClr val="ff420e"/>
                </a:solidFill>
                <a:latin typeface="Bookman Old Style"/>
              </a:rPr>
              <a:t>if ( k.keyDown( Keyboard.TECLA_ESCOLHIDA ) == true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                                </a:t>
            </a: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1900" spc="-1" strike="noStrike">
                <a:solidFill>
                  <a:srgbClr val="00ff00"/>
                </a:solidFill>
                <a:latin typeface="Bookman Old Style"/>
              </a:rPr>
              <a:t>if ( k.keyDown( Keyboard.TECLA_ESCOLHIDA )  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                                                                      </a:t>
            </a:r>
            <a:r>
              <a:rPr b="1" lang="pt-BR" sz="2000" spc="-1" strike="noStrike">
                <a:solidFill>
                  <a:srgbClr val="ffffff"/>
                </a:solidFill>
                <a:latin typeface="Bookman Old Style"/>
              </a:rPr>
              <a:t>tanto 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1900" spc="-1" strike="noStrike">
                <a:solidFill>
                  <a:srgbClr val="ffffff"/>
                </a:solidFill>
                <a:latin typeface="Bookman Old Style"/>
              </a:rPr>
              <a:t>Retorna true se a tecla foi pressionada e false ao contrá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200" spc="-1" strike="noStrike">
                <a:solidFill>
                  <a:srgbClr val="ff00ff"/>
                </a:solidFill>
                <a:latin typeface="Bookman Old Style"/>
              </a:rPr>
              <a:t>k.keyDown( TECLA ESCOLHIDA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0040" y="-1260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i="1" lang="pt-BR" sz="7200" spc="-1" strike="noStrike">
                <a:solidFill>
                  <a:srgbClr val="ffffff"/>
                </a:solidFill>
                <a:latin typeface="Monotype Corsiva"/>
              </a:rPr>
              <a:t>Teclas </a:t>
            </a:r>
            <a:br>
              <a:rPr sz="7200"/>
            </a:b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04472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O nosso Keyboard fornece as seguintes tec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up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seta pra 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left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seta para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right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seta para 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down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para ba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escape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scape de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space_key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: tecla barra de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enter_key:tecla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5:23:32Z</dcterms:created>
  <dc:creator>you</dc:creator>
  <dc:description/>
  <dc:language>en-US</dc:language>
  <cp:lastModifiedBy>you</cp:lastModifiedBy>
  <dcterms:modified xsi:type="dcterms:W3CDTF">2009-11-01T22:42:06Z</dcterms:modified>
  <cp:revision>80</cp:revision>
  <dc:subject/>
  <dc:title>Slide 1</dc:title>
</cp:coreProperties>
</file>