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103-4399-43A8-8327-70FB7517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2D1-762F-4782-804B-27E6A49A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C1F-B52D-44A0-B402-1D1A0E50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A1F-95A3-4A28-9E7E-81E655DE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902-C6D7-45C5-9881-E0F7018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4F2-D8BB-45AB-9CBA-45FB4F8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CA7-775B-4DF5-A703-F00E8815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69A-BAFC-4B27-A2F9-B9450E6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5C9-12F9-4C67-90BF-267E3228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57F-5DA1-4C71-8512-34CB34D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D77-768C-4B54-A6C8-BECA572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347-C484-42D8-BEEE-EB20D72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8DE2-2FF5-4B0B-84F5-38F5BA319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Monotype Corsiva"/>
              </a:rPr>
              <a:t>Exemplo 1: classe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66ff"/>
                </a:solidFill>
                <a:latin typeface="Bookman Old Style"/>
              </a:rPr>
              <a:t>Move-se somente no X ou no 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40652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@Override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public void step(long timeElap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48616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Keyboard k = GameEngine.getInstance().getKeyboard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06864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0" lang="pt-BR" sz="2200" spc="-1" strike="noStrike">
                <a:solidFill>
                  <a:srgbClr val="ff0066"/>
                </a:solidFill>
                <a:latin typeface="Bookman Old Style"/>
              </a:rPr>
              <a:t>k.keyDown</a:t>
            </a:r>
            <a:r>
              <a:rPr b="1" lang="pt-BR" sz="2200" spc="-1" strike="noStrike">
                <a:solidFill>
                  <a:srgbClr val="ff0066"/>
                </a:solidFill>
                <a:latin typeface="Bookman Old Style"/>
              </a:rPr>
              <a:t>(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200" spc="-1" strike="noStrike">
                <a:solidFill>
                  <a:srgbClr val="009999"/>
                </a:solidFill>
                <a:latin typeface="Bookman Old Style"/>
              </a:rPr>
              <a:t>Keyboard.LEFT_KEY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200" spc="-1" strike="noStrike">
                <a:solidFill>
                  <a:srgbClr val="ff0066"/>
                </a:solidFill>
                <a:latin typeface="Bookman Old Style"/>
              </a:rPr>
              <a:t>)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 == true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pt-BR" sz="2200" spc="-1" strike="noStrike">
                <a:solidFill>
                  <a:srgbClr val="00ff00"/>
                </a:solidFill>
                <a:latin typeface="Bookman Old Style"/>
              </a:rPr>
              <a:t>x--;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4560" y="386064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else if ( </a:t>
            </a:r>
            <a:r>
              <a:rPr b="0" lang="pt-BR" sz="2200" spc="-1" strike="noStrike">
                <a:solidFill>
                  <a:srgbClr val="ff0066"/>
                </a:solidFill>
                <a:latin typeface="Bookman Old Style"/>
              </a:rPr>
              <a:t>k.keyDown</a:t>
            </a:r>
            <a:r>
              <a:rPr b="1" lang="pt-BR" sz="2200" spc="-1" strike="noStrike">
                <a:solidFill>
                  <a:srgbClr val="009999"/>
                </a:solidFill>
                <a:latin typeface="Bookman Old Style"/>
              </a:rPr>
              <a:t>(</a:t>
            </a:r>
            <a:r>
              <a:rPr b="0" lang="pt-BR" sz="2200" spc="-1" strike="noStrike">
                <a:solidFill>
                  <a:srgbClr val="009999"/>
                </a:solidFill>
                <a:latin typeface="Bookman Old Style"/>
              </a:rPr>
              <a:t> Keyboard.RIGHT_KEY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200" spc="-1" strike="noStrike">
                <a:solidFill>
                  <a:srgbClr val="ff0066"/>
                </a:solidFill>
                <a:latin typeface="Bookman Old Style"/>
              </a:rPr>
              <a:t>)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== true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pt-BR" sz="2200" spc="-1" strike="noStrike">
                <a:solidFill>
                  <a:srgbClr val="00ff00"/>
                </a:solidFill>
                <a:latin typeface="Bookman Old Style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46101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else if ( </a:t>
            </a:r>
            <a:r>
              <a:rPr b="0" lang="pt-BR" sz="2200" spc="-1" strike="noStrike">
                <a:solidFill>
                  <a:srgbClr val="ff0066"/>
                </a:solidFill>
                <a:latin typeface="Bookman Old Style"/>
              </a:rPr>
              <a:t>k.keyDown</a:t>
            </a:r>
            <a:r>
              <a:rPr b="1" lang="pt-BR" sz="2200" spc="-1" strike="noStrike">
                <a:solidFill>
                  <a:srgbClr val="ff0066"/>
                </a:solidFill>
                <a:latin typeface="Bookman Old Style"/>
              </a:rPr>
              <a:t>(</a:t>
            </a:r>
            <a:r>
              <a:rPr b="0" lang="pt-BR" sz="2200" spc="-1" strike="noStrike">
                <a:solidFill>
                  <a:srgbClr val="009999"/>
                </a:solidFill>
                <a:latin typeface="Bookman Old Style"/>
              </a:rPr>
              <a:t> Keyboard.UP_KEY </a:t>
            </a:r>
            <a:r>
              <a:rPr b="1" lang="pt-BR" sz="2200" spc="-1" strike="noStrike">
                <a:solidFill>
                  <a:srgbClr val="ff0066"/>
                </a:solidFill>
                <a:latin typeface="Bookman Old Style"/>
              </a:rPr>
              <a:t>)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== true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1" lang="pt-BR" sz="2200" spc="-1" strike="noStrike">
                <a:solidFill>
                  <a:srgbClr val="00ff00"/>
                </a:solidFill>
                <a:latin typeface="Bookman Old Style"/>
              </a:rPr>
              <a:t>y--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300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else if ( </a:t>
            </a:r>
            <a:r>
              <a:rPr b="0" lang="pt-BR" sz="2200" spc="-1" strike="noStrike">
                <a:solidFill>
                  <a:srgbClr val="ff0066"/>
                </a:solidFill>
                <a:latin typeface="Bookman Old Style"/>
              </a:rPr>
              <a:t>k.keyDown</a:t>
            </a:r>
            <a:r>
              <a:rPr b="1" lang="pt-BR" sz="2200" spc="-1" strike="noStrike">
                <a:solidFill>
                  <a:srgbClr val="ff0066"/>
                </a:solidFill>
                <a:latin typeface="Bookman Old Style"/>
              </a:rPr>
              <a:t>(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200" spc="-1" strike="noStrike">
                <a:solidFill>
                  <a:srgbClr val="009999"/>
                </a:solidFill>
                <a:latin typeface="Bookman Old Style"/>
              </a:rPr>
              <a:t>Keyboard.DOWN_KEY </a:t>
            </a:r>
            <a:r>
              <a:rPr b="1" lang="pt-BR" sz="2200" spc="-1" strike="noStrike">
                <a:solidFill>
                  <a:srgbClr val="ff0066"/>
                </a:solidFill>
                <a:latin typeface="Bookman Old Style"/>
              </a:rPr>
              <a:t>)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== true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              </a:t>
            </a:r>
            <a:r>
              <a:rPr b="1" lang="pt-BR" sz="2200" spc="-1" strike="noStrike">
                <a:solidFill>
                  <a:srgbClr val="00ff00"/>
                </a:solidFill>
                <a:latin typeface="Bookman Old Style"/>
              </a:rPr>
              <a:t>y++;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6206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84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0" lang="pt-BR" sz="2400" spc="-1" strike="noStrike">
                <a:solidFill>
                  <a:srgbClr val="ff6600"/>
                </a:solidFill>
                <a:latin typeface="Bookman Old Style"/>
              </a:rPr>
              <a:t>bombMax.x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l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retMin.x</a:t>
            </a: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|| </a:t>
            </a:r>
            <a:r>
              <a:rPr b="0" lang="pt-BR" sz="2400" spc="-1" strike="noStrike">
                <a:solidFill>
                  <a:srgbClr val="ff6600"/>
                </a:solidFill>
                <a:latin typeface="Bookman Old Style"/>
              </a:rPr>
              <a:t>bombMin.x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g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retMax.x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)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1484280" cy="1339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59280" y="3716280"/>
            <a:ext cx="3600360" cy="187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560" y="3789360"/>
            <a:ext cx="9144000" cy="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15840" y="5491080"/>
            <a:ext cx="9144000" cy="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451640" y="3933720"/>
            <a:ext cx="1484280" cy="1339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08000" y="5078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078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89000"/>
            <a:ext cx="0" cy="619272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6680" y="163440"/>
            <a:ext cx="8726400" cy="2556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258920" y="3429000"/>
            <a:ext cx="1944720" cy="1627200"/>
            <a:chOff x="1258920" y="3429000"/>
            <a:chExt cx="1944720" cy="16272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258920" y="3716280"/>
              <a:ext cx="1484280" cy="133992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2771640" y="3429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771640" y="4941720"/>
            <a:ext cx="1944720" cy="1627200"/>
            <a:chOff x="2771640" y="4941720"/>
            <a:chExt cx="1944720" cy="162720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2771640" y="5229000"/>
              <a:ext cx="1484280" cy="133992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143" name=""/>
            <p:cNvSpPr/>
            <p:nvPr/>
          </p:nvSpPr>
          <p:spPr>
            <a:xfrm>
              <a:off x="4284360" y="4941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700360" y="3357720"/>
            <a:ext cx="576360" cy="5760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95640" y="3573360"/>
            <a:ext cx="4324320" cy="2097000"/>
            <a:chOff x="3995640" y="3573360"/>
            <a:chExt cx="4324320" cy="2097000"/>
          </a:xfrm>
        </p:grpSpPr>
        <p:sp>
          <p:nvSpPr>
            <p:cNvPr id="146" name=""/>
            <p:cNvSpPr/>
            <p:nvPr/>
          </p:nvSpPr>
          <p:spPr>
            <a:xfrm>
              <a:off x="3995640" y="5302080"/>
              <a:ext cx="2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4211640" y="3573360"/>
              <a:ext cx="4108320" cy="18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468360" y="692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false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25560" y="501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46080" y="17938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6600"/>
                </a:solidFill>
                <a:latin typeface="Bookman Old Style"/>
              </a:rPr>
              <a:t>bombMin</a:t>
            </a: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.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g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retMa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229360"/>
            <a:ext cx="576360" cy="5760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284720" y="2708280"/>
            <a:ext cx="4324320" cy="2097000"/>
            <a:chOff x="4284720" y="2708280"/>
            <a:chExt cx="4324320" cy="2097000"/>
          </a:xfrm>
        </p:grpSpPr>
        <p:sp>
          <p:nvSpPr>
            <p:cNvPr id="154" name=""/>
            <p:cNvSpPr/>
            <p:nvPr/>
          </p:nvSpPr>
          <p:spPr>
            <a:xfrm>
              <a:off x="4284720" y="4437000"/>
              <a:ext cx="2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4500720" y="2708280"/>
              <a:ext cx="4108320" cy="18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179280" y="189000"/>
            <a:ext cx="0" cy="619272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6680" y="163440"/>
            <a:ext cx="8726400" cy="2556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3333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12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false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5280" y="2060640"/>
            <a:ext cx="3052800" cy="2023920"/>
            <a:chOff x="395280" y="2060640"/>
            <a:chExt cx="3052800" cy="20239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395280" y="2419560"/>
              <a:ext cx="1484280" cy="133992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162" name=""/>
            <p:cNvSpPr/>
            <p:nvPr/>
          </p:nvSpPr>
          <p:spPr>
            <a:xfrm>
              <a:off x="1908360" y="2060640"/>
              <a:ext cx="1441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06640" y="371628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y + al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59280" y="4221000"/>
            <a:ext cx="4387680" cy="2430360"/>
            <a:chOff x="3059280" y="4221000"/>
            <a:chExt cx="4387680" cy="24303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338640" y="4482720"/>
              <a:ext cx="4108320" cy="18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059280" y="4221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52880" y="628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492360" y="1773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||</a:t>
            </a:r>
            <a:r>
              <a:rPr b="0" lang="pt-BR" sz="2400" spc="-1" strike="noStrike">
                <a:solidFill>
                  <a:srgbClr val="ff6600"/>
                </a:solidFill>
                <a:latin typeface="Bookman Old Style"/>
              </a:rPr>
              <a:t> bombMax</a:t>
            </a: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.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l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retMin.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3645000"/>
            <a:ext cx="1511280" cy="5760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4149720"/>
            <a:ext cx="574560" cy="5763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2852640"/>
            <a:ext cx="287280" cy="142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89000"/>
            <a:ext cx="0" cy="619272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6680" y="163440"/>
            <a:ext cx="8726400" cy="2556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597 0.06753 C -0.25191 0.05828 -0.22378 0.02914 -0.19913 0.03007 C -0.1743 0.0303 -0.13889 0.0562 -0.11823 0.07123 C -0.09774 0.08673 -0.08264 0.09575 -0.07587 0.12258 C -0.06927 0.1494 -0.06857 0.19404 -0.07882 0.23197 C -0.08837 0.26989 -0.10972 0.33025 -0.13524 0.34899 C -0.16076 0.36864 -0.20382 0.35662 -0.2309 0.34667 C -0.25781 0.33534 -0.28767 0.3173 -0.29843 0.28678 C -0.3092 0.25671 -0.29774 0.19751 -0.29583 0.16467 C -0.29375 0.13252 -0.28923 0.10685 -0.28611 0.09182 C -0.28281 0.07679 -0.28003 0.0784 -0.27534 0.07378 C -0.27083 0.06823 -0.25712 0.06106 -0.25746 0.06198 C -0.25781 0.06222 -0.27326 0.07285 -0.2776 0.07748 C -0.28212 0.0828 -0.28316 0.09066 -0.28437 0.09159 C -0.28507 0.09251 -0.28646 0.08742 -0.28385 0.0828 C -0.28142 0.07864 -0.28038 0.07655 -0.26597 0.06753 Z">
                                      <p:cBhvr>
                                        <p:cTn id="236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20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95640" y="907920"/>
            <a:ext cx="1484280" cy="1339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71880" y="2565360"/>
            <a:ext cx="3600360" cy="1873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588000" y="189000"/>
            <a:ext cx="0" cy="666900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189000"/>
            <a:ext cx="0" cy="666900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140360" y="5013360"/>
            <a:ext cx="1484280" cy="1339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780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2630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189000"/>
            <a:ext cx="0" cy="666900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9000"/>
            <a:ext cx="0" cy="666900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2637000"/>
            <a:ext cx="9144000" cy="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1484280" cy="1339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15440" y="328464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Área de Col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2637000"/>
            <a:ext cx="345600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3885 C 0.1052 -0.03908 0.10225 -0.0666 0.18142 -0.07354 C 0.26059 -0.08048 0.47048 -0.11355 0.55816 -0.08094 C 0.64583 -0.04833 0.68125 0.04626 0.70746 0.12165 C 0.73368 0.19704 0.72031 0.30134 0.71579 0.37165 C 0.71128 0.44196 0.70607 0.50648 0.68003 0.54325 C 0.65399 0.58002 0.64305 0.58303 0.55954 0.59251 C 0.47604 0.60199 0.26788 0.60777 0.17881 0.59968 C 0.08975 0.59159 0.06093 0.58002 0.02534 0.54325 C -0.01025 0.50648 -0.02396 0.44866 -0.0349 0.37905 C -0.04584 0.30944 -0.04462 0.19288 -0.04046 0.12535 C -0.03629 0.05782 -0.02414 -0.0067 -0.01025 -0.02613 C 0.00364 -0.04556 0.0335 0.01619 0.04305 0.00856 C 0.0526 0.00093 0.04062 -0.0629 0.04722 -0.07169 C 0.05381 -0.08048 0.06041 -0.03862 0.08281 -0.03885 Z">
                                      <p:cBhvr>
                                        <p:cTn id="266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07600" y="3139560"/>
            <a:ext cx="31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ublic void star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layer.x = 65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layer.y = 12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92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6560" y="206064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a classe Jogar adicione as seguintes inform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36450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Posição Incial da Bo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429000"/>
            <a:ext cx="649440" cy="431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08360" y="3860280"/>
            <a:ext cx="792360" cy="3603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692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560" y="134136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a classe Jogar adicione as seguintes inform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3126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ublic void step(long timeElap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layer.step(timeElapse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int playerMin = new Point(player.x, player.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int playerMax = new Point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en-US" sz="2400" spc="-1" strike="noStrike">
                <a:solidFill>
                  <a:srgbClr val="00cc00"/>
                </a:solidFill>
                <a:latin typeface="Bookman Old Style"/>
              </a:rPr>
              <a:t>player.x + Constantes.LARGURA_PLAYE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5058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Bookman Old Style"/>
              </a:rPr>
              <a:t>player.y + Constantes.ALTURA_PLAYE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;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4046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9480" y="112536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a classe Jogar adicione as seguintes inform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59660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ublic void step(long timeElap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oint minInimigo  = new Point(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oint maxInimigo = new Point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1" lang="en-US" sz="2400" spc="-1" strike="noStrike">
                <a:solidFill>
                  <a:srgbClr val="ff0066"/>
                </a:solidFill>
                <a:latin typeface="Bookman Old Style"/>
              </a:rPr>
              <a:t>player.isColidiu(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ccff"/>
                </a:solidFill>
                <a:latin typeface="Bookman Old Style"/>
              </a:rPr>
              <a:t>playerMin, playerMa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cc00cc"/>
                </a:solidFill>
                <a:latin typeface="Bookman Old Style"/>
              </a:rPr>
              <a:t>minInimigo, maxInimigo</a:t>
            </a:r>
            <a:r>
              <a:rPr b="1" lang="en-US" sz="2400" spc="-1" strike="noStrike">
                <a:solidFill>
                  <a:srgbClr val="ff0066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tar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9271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Bookman Old Style"/>
              </a:rPr>
              <a:t>X_INICIAL_RETANGU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Bookman Old Style"/>
              </a:rPr>
              <a:t>Y_INICIAL_RETANGULO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" y="43214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Bookman Old Style"/>
              </a:rPr>
              <a:t>X_INICIAL_RETANGULO + LARGURA_RETANGUL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Bookman Old Style"/>
              </a:rPr>
              <a:t>Y_INICIAL_RETANGULO + ALTURA_RETANGULO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252360" y="0"/>
            <a:ext cx="921708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Bookman Old Style"/>
              </a:rPr>
              <a:t>   </a:t>
            </a:r>
            <a:r>
              <a:rPr b="1" lang="pt-BR" sz="3600" spc="-1" strike="noStrike">
                <a:solidFill>
                  <a:srgbClr val="0066ff"/>
                </a:solidFill>
                <a:latin typeface="Monotype Corsiva"/>
              </a:rPr>
              <a:t>Exemplo 2: classe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Bookman Old Style"/>
              </a:rPr>
              <a:t>    </a:t>
            </a:r>
            <a:r>
              <a:rPr b="1" lang="pt-BR" sz="1800" spc="-1" strike="noStrike">
                <a:solidFill>
                  <a:srgbClr val="3366ff"/>
                </a:solidFill>
                <a:latin typeface="Bookman Old Style"/>
              </a:rPr>
              <a:t>Pode mover-se em X ou Y ao mesm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ublic void step(long timeElap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Keyboard k = GameEngine.getInstance().getKeyboar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Keyboard.LEFT_KEY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== tr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     </a:t>
            </a:r>
            <a:r>
              <a:rPr b="1" lang="pt-BR" sz="2400" spc="-1" strike="noStrike">
                <a:solidFill>
                  <a:srgbClr val="00ff00"/>
                </a:solidFill>
                <a:latin typeface="Bookman Old Style"/>
              </a:rPr>
              <a:t>x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lse if 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Keyboard.RIGHT_KEY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== true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Bookman Old Style"/>
              </a:rPr>
              <a:t>                  </a:t>
            </a:r>
            <a:r>
              <a:rPr b="1" lang="pt-BR" sz="2400" spc="-1" strike="noStrike">
                <a:solidFill>
                  <a:srgbClr val="00ff00"/>
                </a:solidFill>
                <a:latin typeface="Bookman Old Style"/>
              </a:rPr>
              <a:t>x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Keyboard.UP_KEY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== tr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          </a:t>
            </a:r>
            <a:r>
              <a:rPr b="1" lang="pt-BR" sz="2400" spc="-1" strike="noStrike">
                <a:solidFill>
                  <a:srgbClr val="00ff00"/>
                </a:solidFill>
                <a:latin typeface="Bookman Old Style"/>
              </a:rPr>
              <a:t>y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lse if 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Keyboard.DOWN_KEY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== true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          </a:t>
            </a:r>
            <a:r>
              <a:rPr b="1" lang="pt-BR" sz="2400" spc="-1" strike="noStrike">
                <a:solidFill>
                  <a:srgbClr val="00ff00"/>
                </a:solidFill>
                <a:latin typeface="Bookman Old Style"/>
              </a:rPr>
              <a:t>y++;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612280" y="3141720"/>
            <a:ext cx="529560" cy="1008000"/>
            <a:chOff x="8612280" y="3141720"/>
            <a:chExt cx="529560" cy="1008000"/>
          </a:xfrm>
        </p:grpSpPr>
        <p:sp>
          <p:nvSpPr>
            <p:cNvPr id="51" name=""/>
            <p:cNvSpPr/>
            <p:nvPr/>
          </p:nvSpPr>
          <p:spPr>
            <a:xfrm>
              <a:off x="8612280" y="3141720"/>
              <a:ext cx="71280" cy="100800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5844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612280" y="5084640"/>
            <a:ext cx="529560" cy="1008000"/>
            <a:chOff x="8612280" y="5084640"/>
            <a:chExt cx="529560" cy="1008000"/>
          </a:xfrm>
        </p:grpSpPr>
        <p:sp>
          <p:nvSpPr>
            <p:cNvPr id="54" name=""/>
            <p:cNvSpPr/>
            <p:nvPr/>
          </p:nvSpPr>
          <p:spPr>
            <a:xfrm>
              <a:off x="8612280" y="5084640"/>
              <a:ext cx="71280" cy="100800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58440" y="5300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00"/>
            <a:ext cx="91440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ff"/>
                </a:solidFill>
                <a:latin typeface="Bookman Old Style"/>
              </a:rPr>
              <a:t> </a:t>
            </a:r>
            <a:r>
              <a:rPr b="1" lang="pt-BR" sz="3600" spc="-1" strike="noStrike">
                <a:solidFill>
                  <a:srgbClr val="3366ff"/>
                </a:solidFill>
                <a:latin typeface="Monotype Corsiva"/>
              </a:rPr>
              <a:t>Exemplo 3: classe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3366ff"/>
                </a:solidFill>
                <a:latin typeface="Bookman Old Style"/>
              </a:rPr>
              <a:t>Pode mover-se em X ou Y ao mesmo tempo e não ultrapassa as bor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ublic void step(long timeElap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Keyboard k = GameEngine.getInstance().getKeyboar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//Move no eixo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(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Keyboard.LEFT_KEY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amp;&amp;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(</a:t>
            </a:r>
            <a:r>
              <a:rPr b="0" lang="pt-BR" sz="24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x &gt; Constantes.LARGURA_MINIMA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           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</a:t>
            </a:r>
            <a:r>
              <a:rPr b="1" lang="pt-BR" sz="2400" spc="-1" strike="noStrike">
                <a:solidFill>
                  <a:srgbClr val="00cc00"/>
                </a:solidFill>
                <a:latin typeface="Bookman Old Style"/>
              </a:rPr>
              <a:t>x--;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lse if (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Keyboard.RIGHT_KEY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 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amp;&amp;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 (x &lt; Constantes.LARGURA_MAXIMA )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         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00cc00"/>
                </a:solidFill>
                <a:latin typeface="Bookman Old Style"/>
              </a:rPr>
              <a:t>          </a:t>
            </a:r>
            <a:r>
              <a:rPr b="1" lang="pt-BR" sz="2400" spc="-1" strike="noStrike">
                <a:solidFill>
                  <a:srgbClr val="00cc00"/>
                </a:solidFill>
                <a:latin typeface="Bookman Old Style"/>
              </a:rPr>
              <a:t>x++;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9000"/>
            <a:ext cx="914400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t-BR" sz="3600" spc="-1" strike="noStrike">
                <a:solidFill>
                  <a:srgbClr val="3366ff"/>
                </a:solidFill>
                <a:latin typeface="Monotype Corsiva"/>
              </a:rPr>
              <a:t>Exemplo 3: classe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Bookman Old Style"/>
              </a:rPr>
              <a:t>     </a:t>
            </a:r>
            <a:r>
              <a:rPr b="1" lang="pt-BR" sz="1800" spc="-1" strike="noStrike">
                <a:solidFill>
                  <a:srgbClr val="3366ff"/>
                </a:solidFill>
                <a:latin typeface="Bookman Old Style"/>
              </a:rPr>
              <a:t>Pode mover-se em X ou Y ao mesmo tempo e não ultrapassa as bordas.</a:t>
            </a:r>
            <a:r>
              <a:rPr b="0" lang="pt-BR" sz="2400" spc="-1" strike="noStrike">
                <a:solidFill>
                  <a:srgbClr val="99cc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man Old Style"/>
              </a:rPr>
              <a:t>(continuação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....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//Move no eixo 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Keyboard.DOWN_KEY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amp;&amp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( y &lt; Constantes.ALTURA_MAXIMA)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)    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pt-BR" sz="2400" spc="-1" strike="noStrike">
                <a:solidFill>
                  <a:srgbClr val="00cc00"/>
                </a:solidFill>
                <a:latin typeface="Bookman Old Style"/>
              </a:rPr>
              <a:t>y++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lse if ( 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k.keyDown(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Keyboard.UP_KEY</a:t>
            </a:r>
            <a:r>
              <a:rPr b="0" lang="pt-BR" sz="2400" spc="-1" strike="noStrike">
                <a:solidFill>
                  <a:srgbClr val="d60093"/>
                </a:solidFill>
                <a:latin typeface="Bookman Old Style"/>
              </a:rPr>
              <a:t>)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amp;&amp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Bookman Old Style"/>
              </a:rPr>
              <a:t>( y &gt; Constantes.ALTURA_MINIMA)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)    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pt-BR" sz="2400" spc="-1" strike="noStrike">
                <a:solidFill>
                  <a:srgbClr val="00cc00"/>
                </a:solidFill>
                <a:latin typeface="Bookman Old Style"/>
              </a:rPr>
              <a:t>y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260280"/>
            <a:ext cx="8459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t-BR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ff"/>
                </a:solidFill>
                <a:latin typeface="Bookman Old Style"/>
              </a:rPr>
              <a:t>Desenhamos um quadrado na tela, usando método draw na classe </a:t>
            </a:r>
            <a:r>
              <a:rPr b="1" lang="pt-BR" sz="2400" spc="-1" strike="noStrike">
                <a:solidFill>
                  <a:srgbClr val="3366ff"/>
                </a:solidFill>
                <a:latin typeface="Bookman Old Style"/>
              </a:rPr>
              <a:t>Jogar()</a:t>
            </a:r>
            <a:r>
              <a:rPr b="0" lang="pt-BR" sz="2800" spc="-1" strike="noStrike">
                <a:solidFill>
                  <a:srgbClr val="3366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2565360"/>
            <a:ext cx="706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void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raw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 Graphics g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g.clearRect( 0, 0, 800, 600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1" lang="pt-BR" sz="2400" spc="-1" strike="noStrike">
                <a:solidFill>
                  <a:srgbClr val="00cc00"/>
                </a:solidFill>
                <a:latin typeface="Bookman Old Style"/>
              </a:rPr>
              <a:t>g.drawRect</a:t>
            </a:r>
            <a:r>
              <a:rPr b="0" lang="pt-BR" sz="2400" spc="-1" strike="noStrike">
                <a:solidFill>
                  <a:srgbClr val="00cc00"/>
                </a:solidFill>
                <a:latin typeface="Bookman Old Style"/>
              </a:rPr>
              <a:t>(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layer.draw(g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8680" y="37162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X_INICIAL_RETANGU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068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Y_INICIAL_RETANGU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71920" y="441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RGURA_RETANGUL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51400" y="47721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URA_RETANG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5493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ookman Old Style"/>
              </a:rPr>
              <a:t>Java possui uma classe chamada </a:t>
            </a:r>
            <a:r>
              <a:rPr b="1" lang="en-US" sz="2400" spc="-1" strike="noStrike">
                <a:solidFill>
                  <a:srgbClr val="3366ff"/>
                </a:solidFill>
                <a:latin typeface="Bookman Old Style"/>
              </a:rPr>
              <a:t>Point</a:t>
            </a:r>
            <a:r>
              <a:rPr b="0" lang="en-US" sz="2400" spc="-1" strike="noStrike">
                <a:solidFill>
                  <a:srgbClr val="3366ff"/>
                </a:solidFill>
                <a:latin typeface="Bookman Old Style"/>
              </a:rPr>
              <a:t>() a qual guarda as coordenadas x e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200" y="3716280"/>
            <a:ext cx="65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man Old Style"/>
              </a:rPr>
              <a:t>Point p = new Point( valorX, valorY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932360" y="23493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Point min1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Point max1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Point min2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Point max2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04640"/>
            <a:ext cx="84596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t-BR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ff"/>
                </a:solidFill>
                <a:latin typeface="Bookman Old Style"/>
              </a:rPr>
              <a:t>Adicionamos o método isColideu que verifica colisoes entre o player e outro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349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ublic boolean </a:t>
            </a:r>
            <a:r>
              <a:rPr b="1" lang="pt-BR" sz="2400" spc="-1" strike="noStrike">
                <a:solidFill>
                  <a:srgbClr val="00cc00"/>
                </a:solidFill>
                <a:latin typeface="Bookman Old Style"/>
              </a:rPr>
              <a:t>isColidiu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30034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min1.x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g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max2.x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|| </a:t>
            </a: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max1.x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l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min2.x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)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false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2560" y="43909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min1.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g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max2.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|| </a:t>
            </a:r>
            <a:r>
              <a:rPr b="0" lang="pt-BR" sz="2400" spc="-1" strike="noStrike">
                <a:solidFill>
                  <a:srgbClr val="ff3300"/>
                </a:solidFill>
                <a:latin typeface="Bookman Old Style"/>
              </a:rPr>
              <a:t>max1.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l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min2.y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)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false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551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79280" y="3068640"/>
            <a:ext cx="4386240" cy="2665440"/>
            <a:chOff x="179280" y="3068640"/>
            <a:chExt cx="4386240" cy="2665440"/>
          </a:xfrm>
        </p:grpSpPr>
        <p:sp>
          <p:nvSpPr>
            <p:cNvPr id="74" name=""/>
            <p:cNvSpPr/>
            <p:nvPr/>
          </p:nvSpPr>
          <p:spPr>
            <a:xfrm>
              <a:off x="3022560" y="314172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x + largu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24080" y="528804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x + largu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79280" y="3500640"/>
              <a:ext cx="410832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916000" y="3068640"/>
              <a:ext cx="154800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17880" y="5157720"/>
              <a:ext cx="154764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68360" y="692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r>
              <a:rPr b="0" lang="pt-BR" sz="2400" spc="-1" strike="noStrike">
                <a:solidFill>
                  <a:srgbClr val="ff6600"/>
                </a:solidFill>
                <a:latin typeface="Bookman Old Style"/>
              </a:rPr>
              <a:t>bombMin.x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g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retMa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66840" y="3286080"/>
            <a:ext cx="1915920" cy="2023920"/>
            <a:chOff x="366840" y="3286080"/>
            <a:chExt cx="1915920" cy="202392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798480" y="3645000"/>
              <a:ext cx="1484280" cy="133992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83" name=""/>
            <p:cNvSpPr/>
            <p:nvPr/>
          </p:nvSpPr>
          <p:spPr>
            <a:xfrm>
              <a:off x="366840" y="3286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6840" y="49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757760" y="3141720"/>
            <a:ext cx="4386240" cy="2514600"/>
            <a:chOff x="4757760" y="3141720"/>
            <a:chExt cx="4386240" cy="2514600"/>
          </a:xfrm>
        </p:grpSpPr>
        <p:sp>
          <p:nvSpPr>
            <p:cNvPr id="86" name=""/>
            <p:cNvSpPr/>
            <p:nvPr/>
          </p:nvSpPr>
          <p:spPr>
            <a:xfrm>
              <a:off x="7601040" y="314172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x + largu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02560" y="528804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x + largu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4757760" y="3500280"/>
              <a:ext cx="4108320" cy="187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900000" y="21081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0920" y="3068640"/>
            <a:ext cx="8893080" cy="2665440"/>
            <a:chOff x="250920" y="3068640"/>
            <a:chExt cx="8893080" cy="2665440"/>
          </a:xfrm>
        </p:grpSpPr>
        <p:sp>
          <p:nvSpPr>
            <p:cNvPr id="91" name=""/>
            <p:cNvSpPr/>
            <p:nvPr/>
          </p:nvSpPr>
          <p:spPr>
            <a:xfrm>
              <a:off x="293760" y="3213000"/>
              <a:ext cx="57456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4480" y="3068640"/>
              <a:ext cx="154800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4869000"/>
              <a:ext cx="574560" cy="57600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6360" y="5157720"/>
              <a:ext cx="154764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80000" y="3213000"/>
            <a:ext cx="2031840" cy="2232000"/>
            <a:chOff x="5580000" y="3213000"/>
            <a:chExt cx="2031840" cy="223200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127560" y="3644640"/>
              <a:ext cx="1484280" cy="133992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97" name=""/>
            <p:cNvSpPr/>
            <p:nvPr/>
          </p:nvSpPr>
          <p:spPr>
            <a:xfrm>
              <a:off x="5695920" y="3286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95920" y="49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22840" y="3213000"/>
              <a:ext cx="57456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80000" y="4868640"/>
              <a:ext cx="57456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79280" y="189000"/>
            <a:ext cx="0" cy="619272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6680" y="163440"/>
            <a:ext cx="8726400" cy="2556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692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Monotype Corsiva"/>
              </a:rPr>
              <a:t>Exemplo 3: Coli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77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f 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98480" y="3286080"/>
            <a:ext cx="2954520" cy="2023920"/>
            <a:chOff x="798480" y="3286080"/>
            <a:chExt cx="2954520" cy="2023920"/>
          </a:xfrm>
        </p:grpSpPr>
        <p:sp>
          <p:nvSpPr>
            <p:cNvPr id="106" name=""/>
            <p:cNvSpPr/>
            <p:nvPr/>
          </p:nvSpPr>
          <p:spPr>
            <a:xfrm>
              <a:off x="2311560" y="328608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x + largu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98480" y="3645000"/>
              <a:ext cx="1484280" cy="133992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108" name=""/>
            <p:cNvSpPr/>
            <p:nvPr/>
          </p:nvSpPr>
          <p:spPr>
            <a:xfrm>
              <a:off x="2311560" y="494172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x + largu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470480" y="3213000"/>
            <a:ext cx="4395600" cy="2443320"/>
            <a:chOff x="4470480" y="3213000"/>
            <a:chExt cx="4395600" cy="2443320"/>
          </a:xfrm>
        </p:grpSpPr>
        <p:sp>
          <p:nvSpPr>
            <p:cNvPr id="110" name=""/>
            <p:cNvSpPr/>
            <p:nvPr/>
          </p:nvSpPr>
          <p:spPr>
            <a:xfrm>
              <a:off x="4470480" y="3213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52880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ccff"/>
                  </a:solidFill>
                  <a:latin typeface="Arial"/>
                </a:rPr>
                <a:t>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757760" y="3500280"/>
              <a:ext cx="4108320" cy="187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4284720" y="1747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773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6600"/>
                </a:solidFill>
                <a:latin typeface="Bookman Old Style"/>
              </a:rPr>
              <a:t>bombMax.x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&lt; </a:t>
            </a:r>
            <a:r>
              <a:rPr b="0" lang="pt-BR" sz="2400" spc="-1" strike="noStrike">
                <a:solidFill>
                  <a:srgbClr val="99ccff"/>
                </a:solidFill>
                <a:latin typeface="Bookman Old Style"/>
              </a:rPr>
              <a:t>retMin.x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1081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195640" y="3141720"/>
            <a:ext cx="2921040" cy="2663640"/>
            <a:chOff x="2195640" y="3141720"/>
            <a:chExt cx="2921040" cy="2663640"/>
          </a:xfrm>
        </p:grpSpPr>
        <p:sp>
          <p:nvSpPr>
            <p:cNvPr id="117" name=""/>
            <p:cNvSpPr/>
            <p:nvPr/>
          </p:nvSpPr>
          <p:spPr>
            <a:xfrm>
              <a:off x="2238480" y="4869000"/>
              <a:ext cx="1511280" cy="57600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41760" y="5229360"/>
              <a:ext cx="574920" cy="57600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27640" y="3141720"/>
              <a:ext cx="57456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5640" y="3213000"/>
              <a:ext cx="1511280" cy="576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67280" y="2781360"/>
            <a:ext cx="360360" cy="214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9000"/>
            <a:ext cx="0" cy="619272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6680" y="163440"/>
            <a:ext cx="8726400" cy="25560"/>
          </a:xfrm>
          <a:prstGeom prst="line">
            <a:avLst/>
          </a:prstGeom>
          <a:ln w="5724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325E-006 C 0.0151 0.0215 0.05677 0.05897 0.06701 0.10407 C 0.07725 0.14916 0.06771 0.22571 0.06163 0.27012 C 0.05555 0.31452 0.05347 0.3462 0.03003 0.37049 C 0.00659 0.39477 -0.03768 0.41674 -0.07952 0.41605 C -0.12136 0.41535 -0.19045 0.40425 -0.22066 0.36679 C -0.25087 0.32932 -0.25868 0.24583 -0.26042 0.19172 C -0.26216 0.1376 -0.25677 0.07562 -0.2316 0.04209 C -0.20643 0.00855 -0.14288 0.00231 -0.10972 -0.00902 C -0.07657 -0.02035 -0.04966 -0.02452 -0.03299 -0.02544 C -0.01632 -0.02637 -0.01684 -0.02082 -0.00972 -0.01457 C -0.00261 -0.00833 0.01041 0.01295 0.00955 0.01272 C 0.00868 0.01249 -0.00816 -0.01064 -0.01511 -0.01642 C -0.02205 -0.0222 -0.03021 -0.02059 -0.0316 -0.02197 C -0.03299 -0.02336 -0.029 -0.02822 -0.02327 -0.02544 C -0.01754 -0.02267 -0.01511 -0.02151 2.77778E-006 3.29325E-006 Z">
                                      <p:cBhvr>
                                        <p:cTn id="17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0:28:34Z</dcterms:created>
  <dc:creator>you</dc:creator>
  <dc:description/>
  <dc:language>en-US</dc:language>
  <cp:lastModifiedBy>you</cp:lastModifiedBy>
  <dcterms:modified xsi:type="dcterms:W3CDTF">2009-11-03T22:38:43Z</dcterms:modified>
  <cp:revision>171</cp:revision>
  <dc:subject/>
  <dc:title>Slide 1</dc:title>
</cp:coreProperties>
</file>