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98B-5B10-4AE7-AA78-0AE0180C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DAC9-4A05-4153-94E3-B81D90F0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239E-AD1A-4131-A4CF-05844CFD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54AA-334A-4B5F-8F0C-784560A84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8999E-AA1A-4DB9-BF5C-0595473A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0FE3-B8B2-4AFC-B9CF-A0A6077D3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F550-2DC9-425F-A327-126E8848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9ACA-F935-4809-AA0F-5329353C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BF80-9239-4101-B5FE-C16BDEA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8361-46FB-46ED-B36E-5EB700AD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522-FF16-4966-9491-3B83D0CB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02CA-BF1C-4D40-AF30-34BBA7A11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D31-670A-43EC-A0C0-22618902D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-20520"/>
          <a:ext cx="914400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0520"/>
                    <a:ext cx="914400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-725040" y="4295880"/>
            <a:ext cx="487476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Haettenschweiler"/>
              </a:rPr>
              <a:t>Alun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Haettenschweiler"/>
              </a:rPr>
              <a:t>Raissa dos Santos Ferreir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Haettenschweiler"/>
              </a:rPr>
              <a:t>Robison Meirelles Juni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Haettenschweiler"/>
              </a:rPr>
              <a:t>Profess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0000"/>
                </a:solidFill>
                <a:latin typeface="Haettenschweiler"/>
              </a:rPr>
              <a:t>Esteban Clua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1125360"/>
            <a:ext cx="8748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Interface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TELA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Exibirá o nome do jogador,menus, uma caixa com informações necessárias ao usuário como o numero de batidas e moedas coletadas, no canto superior direito da tela será mostrado um velocímetro pertencente ao seu carro e um cronômetro que também pode ser usado como botão de pau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1052640"/>
            <a:ext cx="8748720" cy="52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pt-BR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pt-BR" sz="5000" spc="-1" strike="noStrike">
                <a:solidFill>
                  <a:srgbClr val="ff0000"/>
                </a:solidFill>
                <a:latin typeface="Haettenschweiler"/>
              </a:rPr>
              <a:t>Interface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0000"/>
                </a:solidFill>
                <a:latin typeface="Haettenschweiler"/>
              </a:rPr>
              <a:t>MENU E SUBMENU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4000" spc="-1" strike="noStrike">
                <a:solidFill>
                  <a:srgbClr val="ffff00"/>
                </a:solidFill>
                <a:latin typeface="Haettenschweiler"/>
              </a:rPr>
              <a:t>No menu estão localizados botões de auxilio ao usuário podendo acessar o submenu do jogo onde existem botões para começar um novo jogo, pausar e sair, o botão “ajuda” para visualizar como se joga e os crédit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0" y="15840"/>
          <a:ext cx="914400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840"/>
                    <a:ext cx="914400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-11160"/>
          <a:ext cx="9144000" cy="686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1160"/>
                    <a:ext cx="9144000" cy="686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4360" y="28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Haettenschweiler"/>
              </a:rPr>
              <a:t>FIM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Idéia Básic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Objetivo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Mecanismo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Interface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Idéia Básica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Haettenschweiler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Conduzir, alcoolizado, um carro, evitando colidir com os demais carros na pist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Objetivo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Haettenschweiler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Coletar o máximo de moedas possíveis sem bater nos carros que estão a sua volta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Cada moeda coletada diminui em 1 o número de colisões obtido ao término da f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5280" y="1125360"/>
            <a:ext cx="82915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Mecanismo do jogo..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Haettenschweiler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O jogo é dividido em 5 fases. O usuário terá um numero mínimo de moedas para coletar, um número mínimo de batidas “hits” e um tempo, se ao final do tempo determinado o usuário tiver coletado o numero de moedas suficiente e não ter estourado o número de colisões ele passará de fas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125360"/>
            <a:ext cx="82915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en-US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en-US" sz="5000" spc="-1" strike="noStrike">
                <a:solidFill>
                  <a:srgbClr val="ff0000"/>
                </a:solidFill>
                <a:latin typeface="Haettenschweiler"/>
              </a:rPr>
              <a:t>...Mecanismo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Haettenschweiler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Haettenschweiler"/>
              </a:rPr>
              <a:t>A cada fase a dificuldade irá aumentando com o aumento da velocidade do carro e diminuição do controle sobre carro, a cada fase o carro se torna mais difícil de se controla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73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Haettenschweiler"/>
              </a:rPr>
              <a:t>Drunk Driver of Met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1125360"/>
            <a:ext cx="82915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ff00"/>
                </a:solidFill>
                <a:latin typeface="Haettenschweiler"/>
              </a:rPr>
              <a:t>&gt;&gt;</a:t>
            </a:r>
            <a:r>
              <a:rPr b="0" lang="pt-BR" sz="5000" spc="-1" strike="noStrike">
                <a:solidFill>
                  <a:srgbClr val="000000"/>
                </a:solidFill>
                <a:latin typeface="Haettenschweiler"/>
              </a:rPr>
              <a:t> </a:t>
            </a:r>
            <a:r>
              <a:rPr b="0" lang="pt-BR" sz="5000" spc="-1" strike="noStrike">
                <a:solidFill>
                  <a:srgbClr val="ff0000"/>
                </a:solidFill>
                <a:latin typeface="Haettenschweiler"/>
              </a:rPr>
              <a:t>Interface do Jog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5000" spc="-1" strike="noStrike">
                <a:solidFill>
                  <a:srgbClr val="ff0000"/>
                </a:solidFill>
                <a:latin typeface="Haettenschweiler"/>
              </a:rPr>
              <a:t>TELA INICIAL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00"/>
                </a:solidFill>
                <a:latin typeface="Haettenschweiler"/>
              </a:rPr>
              <a:t>A</a:t>
            </a:r>
            <a:r>
              <a:rPr b="0" i="1" lang="pt-BR" sz="4000" spc="-1" strike="noStrike">
                <a:solidFill>
                  <a:srgbClr val="ffff00"/>
                </a:solidFill>
                <a:latin typeface="Haettenschweiler"/>
              </a:rPr>
              <a:t> </a:t>
            </a:r>
            <a:r>
              <a:rPr b="0" lang="pt-BR" sz="4000" spc="-1" strike="noStrike">
                <a:solidFill>
                  <a:srgbClr val="ffff00"/>
                </a:solidFill>
                <a:latin typeface="Haettenschweiler"/>
              </a:rPr>
              <a:t>tela possui o nome do jogo e o botão de start. Posteriormente, será mostrado uma caixa para inserção do nome do usuário e em seguida um seletor de modelo de carros onde através do mouse o usuário escolhe o carro que ira jogar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0" y="-20520"/>
          <a:ext cx="9144000" cy="68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0520"/>
                    <a:ext cx="9144000" cy="68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0" y="0"/>
          <a:ext cx="9144000" cy="684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30T21:21:38Z</dcterms:created>
  <dc:creator>COMPUTADOR</dc:creator>
  <dc:description/>
  <dc:language>en-US</dc:language>
  <cp:lastModifiedBy>Ailton</cp:lastModifiedBy>
  <dcterms:modified xsi:type="dcterms:W3CDTF">2009-07-01T12:57:28Z</dcterms:modified>
  <cp:revision>13</cp:revision>
  <dc:subject/>
  <dc:title>Slide 1</dc:title>
</cp:coreProperties>
</file>