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4B9-E9E8-4C05-AC3C-C87B97CE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D24-955E-4D9A-9454-4CCCCBFE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D95-ED51-4719-AC15-C9AA9559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579-E25F-4186-BA6B-3344BB3B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D5C-E5F9-4823-8545-4F6CB264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903-6E86-4103-9A40-4B8F723B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985-09EF-47F6-AAEA-B653DA16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FCA-5201-4823-BD5B-6EC379CF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1A6-714B-4F86-94CB-8EEEC780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50B-2A2F-482A-BCE8-A10E6A06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E4A-6780-44D9-937C-A3A255C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9828-FA9C-446B-95F5-3837AE74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4D6B-BD18-498D-B7BA-1C982473FEC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rabal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8036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alkthrough em ambientes de arquitetura em Unity e d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y-tracing em 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nhecimento de padrões em 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as técnicas de Tesselation em GPU usando Fer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 Time Displacement mapping e métodos de L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e Octrees em GPUs [continuação Daniel Madeir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ght scattering para atmosf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uvem volumét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 Time Rendering no iPad [gr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s de foco em Tempo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rect Computing x CUDA x OpenCL [gr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ling Projections com correção de distor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go para GingaJ [gr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quitetura de Engines baseados em Multi-a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4:30:36Z</dcterms:created>
  <dc:creator>IC</dc:creator>
  <dc:description/>
  <dc:language>en-US</dc:language>
  <cp:lastModifiedBy>Esteban</cp:lastModifiedBy>
  <dcterms:modified xsi:type="dcterms:W3CDTF">2010-04-07T19:37:25Z</dcterms:modified>
  <cp:revision>10</cp:revision>
  <dc:subject/>
  <dc:title>Trabalhos</dc:title>
</cp:coreProperties>
</file>